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0FCF-009D-4633-B325-5D33C48F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BD7-9C93-45E2-A2D7-6E840B3C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02A6-DFB5-4C16-8A31-3D4AC2B3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AD0-FC1A-4730-B83C-6B94D2D4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6DF80-B311-4397-97D4-1CA1D272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48AF4-6915-4DE7-AC3B-1882E8F9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93B3F-A5C6-4901-B41F-B17BFF6E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E93A5-D777-4182-97EF-5AD2C680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9168F-A072-4B79-A4D9-268913C8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88A65-2AE4-4398-BF02-4195D170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3CD0C-59C6-41FF-B70A-70C4FFC8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8D5-85C1-4232-ACEC-6DEC6612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3C780-29E5-4B6F-83C7-11482A1E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8FFC2-DEC6-4021-92D0-290F9BE1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A24F2-4E49-49C7-A2E4-6FA6442A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89DD3-9BC6-45C8-81A7-B18C05C4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82BAE-CFA3-457C-83D4-6243DE16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45E-BB61-4809-B5D3-004B07AF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75F-964C-47C1-991A-0B673914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E6E8-D776-48B3-A9BB-11AA98C1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F6D9-2AEF-4B3C-BA7C-602C78C2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78F-29AD-48E6-9C37-EC6CD617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7A1-1AFD-45C2-AB6C-8876EC43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4DF-03DF-4097-9F6F-589703EC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1343-59CC-4B1B-92BD-2112ECDB32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d2f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5432-DC35-4582-B4CE-F33FA4DF2D09}" type="slidenum">
              <a:rPr b="0" lang="ru-RU" sz="1200" spc="-1" strike="noStrike">
                <a:solidFill>
                  <a:srgbClr val="ffd2f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hukchi_boats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КОТСКИ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ТОНОМНЫ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УГ РФ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3" name="Рисунок 2" descr="ЧАО.gif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чукчи мо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сни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узык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анцы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6760" y="571464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d8ff"/>
                </a:solidFill>
                <a:latin typeface="Arial"/>
              </a:rPr>
              <a:t>Чукотская резная кость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2333520" cy="2168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5292720" y="3068640"/>
            <a:ext cx="2444760" cy="27860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image0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6048000"/>
            <a:ext cx="840096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Ремесло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резьба по кости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gallery_20018_163_243685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ЧУДО Чукотской природы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еверное сияни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00040" y="2571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1" lang="ru-RU" sz="9600" spc="-1" strike="noStrike">
                <a:solidFill>
                  <a:srgbClr val="ffd2f5"/>
                </a:solidFill>
                <a:latin typeface="Arial"/>
              </a:rPr>
              <a:t>!!!</a:t>
            </a:r>
            <a:endParaRPr b="0" lang="en-US" sz="96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29120" y="856800"/>
            <a:ext cx="36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&lt;&lt;&lt;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лаг ЧА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5" name="Рисунок 2" descr="19204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04956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785880" y="4214880"/>
            <a:ext cx="368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рб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&gt;&gt;&gt;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О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27" name="Рисунок 4" descr="19203.jpg"/>
          <p:cNvPicPr/>
          <p:nvPr/>
        </p:nvPicPr>
        <p:blipFill>
          <a:blip r:embed="rId2"/>
          <a:stretch/>
        </p:blipFill>
        <p:spPr>
          <a:xfrm>
            <a:off x="6215040" y="3240000"/>
            <a:ext cx="29289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енное населени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чукчи (1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72 чел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9" name="Рисунок 5" descr="1381890734_voiny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яран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002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яранг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-2214720" y="9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Жилище</a:t>
            </a:r>
            <a:r>
              <a:rPr b="0" lang="en-US" sz="4400" spc="-1" strike="noStrike" u="sng">
                <a:solidFill>
                  <a:srgbClr val="0049db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5" descr="олен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5586480"/>
            <a:ext cx="822960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9db"/>
                </a:solidFill>
                <a:latin typeface="Arial"/>
              </a:rPr>
              <a:t>оленеводств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0200" y="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1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http://upload.wikimedia.org/wikipedia/commons/thumb/7/76/Chukchi_boats.jpg/300px-Chukchi_boa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610000"/>
            <a:ext cx="5689440" cy="3281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1_Моржи, ЗФИ. Фото - А. Каменев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морская охот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1600200"/>
            <a:ext cx="4859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Чукотская одежда </a:t>
            </a:r>
            <a:r>
              <a:rPr b="1" lang="ru-RU" sz="2800" spc="-1" strike="noStrike">
                <a:solidFill>
                  <a:srgbClr val="ffd2f5"/>
                </a:solidFill>
                <a:latin typeface="Arial"/>
              </a:rPr>
              <a:t>«кухлянка»</a:t>
            </a: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 - двойная меховая рубаха  длиной до колен или короче; нижняя рубаха надевалась мехом внутрь, верхняя—мехом наружу. Кухлянка подпоясывалась ремнем, так что образовывался напуск. К ремню привешивался нож, кисет и другие предметы. </a:t>
            </a: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713400" cy="4608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2225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55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Национальная одежда чукч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(кухлянка и торбаса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85880" y="107136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редства передвижения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357280" y="4500720"/>
            <a:ext cx="84247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рты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3786120" y="3436920"/>
            <a:ext cx="5357880" cy="342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5332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40006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Чукотский</a:t>
            </a: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шаман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ечи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сказыва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лдует</a:t>
            </a:r>
            <a:endParaRPr b="0" lang="en-US" sz="40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48" name="Содержимое 3" descr="шаман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31:41Z</dcterms:created>
  <dc:creator>Артём</dc:creator>
  <dc:description/>
  <dc:language>en-US</dc:language>
  <cp:lastModifiedBy>Лена</cp:lastModifiedBy>
  <dcterms:modified xsi:type="dcterms:W3CDTF">2016-01-28T13:24:55Z</dcterms:modified>
  <cp:revision>36</cp:revision>
  <dc:subject/>
  <dc:title>Чукчи</dc:title>
</cp:coreProperties>
</file>